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77075" cy="8956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F84-01A1-48C7-88C4-B372007B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AC4-3B22-4670-9F29-BDBEB4B1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3B6-D9F0-412E-886F-1812AE71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84F-14D5-4722-8CC1-DFC5BAE4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F8A7-3F99-44A2-83AC-F03FB255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C2B5-D2F5-490E-BABD-C33D2886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57FA-2C45-4504-8865-B7C7C6FD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BFFE-165C-44F6-A851-BD33B987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703D-874F-4BF4-B4A3-B7B21EB4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128D-D759-40F7-A3E3-58E802FB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86B0-D756-4918-8ABC-9A933C8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C97-F462-4CB2-A725-3360E5EA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C3C0-BF8E-4AF5-AAAE-CB7B0FE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B61A-1E74-4C10-BA82-9F47560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DD54-3F5A-4760-A791-14EDC24F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65CB-7EDE-4367-B327-8155E9C0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5E70-C9AE-4211-A1E4-BB6430D5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055-6969-41E3-93D9-A9BD79C5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B32-A1B9-42ED-A732-67EC828D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012-D6A8-4FBE-A661-16AB2E3E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2AC-EA63-458D-847E-0F144D43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F86-AF74-4E4E-B83E-77AD7EB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B51-4531-4326-8D3F-1CFA87FD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B46-FBAA-4541-A61A-EA173F5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1241-7BA0-45C6-9245-EE7738163C7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AAA1-75CA-470B-B4C3-4770DD409F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EE2D-A285-4FCE-B8E6-56A06FF19B99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3534-95A8-4554-8F49-DBAD93FAAE7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6/ChipotleDistributionDecember2010.PN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ipotle.com/en-US/menu/ingredients/ingredients.aspx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566880"/>
            <a:ext cx="640080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90" name="Picture 2" descr="http://www.londonburrito.com/resources/chipotle-570x4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676520" y="3352680"/>
            <a:ext cx="601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Stephen Raine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Kevin Weiga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 Proportion T-Interv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666520" y="1447560"/>
            <a:ext cx="40388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 = 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µ = 7.9644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dence = 9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362320" y="3276720"/>
            <a:ext cx="396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di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). SRS                             1). St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). Population ≥ 10n     2). Yes there a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ore th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690 chipotl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ustom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).Normal population  3). Yes n is &gt; 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r n ≥ 30                           (69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9" descr="http://upload.wikimedia.org/wikipedia/commons/thumb/e/eb/Blue_check.svg/600px-Blue_check.svg.png"/>
          <p:cNvPicPr/>
          <p:nvPr/>
        </p:nvPicPr>
        <p:blipFill>
          <a:blip r:embed="rId1"/>
          <a:stretch/>
        </p:blipFill>
        <p:spPr>
          <a:xfrm>
            <a:off x="6324480" y="4038480"/>
            <a:ext cx="838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nditions Met- Student t distribution- 1 Sample t Interva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x ± t*(s/    n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7.96 ± t*(1.64/ 8.31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 7.57104, 8.35794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 are 95% confident that the true mean of total prices at Chipotle is between 7.57 and 8.36 dollars per meal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Straight Connector 4"/>
          <p:cNvSpPr/>
          <p:nvPr/>
        </p:nvSpPr>
        <p:spPr>
          <a:xfrm>
            <a:off x="990720" y="1752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" descr="http://roofframer.com/images/square-root-symbol.jpg"/>
          <p:cNvPicPr/>
          <p:nvPr/>
        </p:nvPicPr>
        <p:blipFill>
          <a:blip r:embed="rId1"/>
          <a:stretch/>
        </p:blipFill>
        <p:spPr>
          <a:xfrm>
            <a:off x="2590920" y="1676520"/>
            <a:ext cx="3045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686160" y="17524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al vs.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al Ty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441648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2895480" y="228600"/>
          <a:ext cx="6096240" cy="26002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n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w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r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7"/>
          <p:cNvSpPr/>
          <p:nvPr/>
        </p:nvSpPr>
        <p:spPr>
          <a:xfrm>
            <a:off x="152280" y="327672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gain, the burrito is the most popular at dinner and lun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same amount of tacos were ordered at lunch and di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 dinner there was no o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same amount of bowls, salads, and tacos were ordered at dinner (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hi-Square Test of independence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Meal vs. Meal Typ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304920" y="1905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bserve and Expected Data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xpected in Pare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280" y="2743200"/>
          <a:ext cx="3429000" cy="22287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n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w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4.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5.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r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(5.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 (19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 (0.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1.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 (4.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5.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5.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6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5" name="TextBox 6"/>
          <p:cNvSpPr/>
          <p:nvPr/>
        </p:nvSpPr>
        <p:spPr>
          <a:xfrm>
            <a:off x="3733920" y="1600200"/>
            <a:ext cx="4876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: There is no association between meal and meal ty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: There is an association between meal and meal typ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di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).  Categorical Data?             1).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).  2 Ind SRS?                          2). Yes, St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). All expected cell counts    3). No, 4 of 10 a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reater than 5?                        not but we wi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tinue anyw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9" descr="http://upload.wikimedia.org/wikipedia/commons/thumb/e/eb/Blue_check.svg/600px-Blue_check.svg.png"/>
          <p:cNvPicPr/>
          <p:nvPr/>
        </p:nvPicPr>
        <p:blipFill>
          <a:blip r:embed="rId1"/>
          <a:stretch/>
        </p:blipFill>
        <p:spPr>
          <a:xfrm>
            <a:off x="5562720" y="4971960"/>
            <a:ext cx="8380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nditions Met - </a:t>
            </a: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 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² Test of Independence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1149480" y="1905120"/>
                <a:ext cx="6976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1847880" y="3124080"/>
                <a:ext cx="552456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TextBox 8"/>
          <p:cNvSpPr/>
          <p:nvPr/>
        </p:nvSpPr>
        <p:spPr>
          <a:xfrm>
            <a:off x="990720" y="411480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 fail to reject that there is no association between meal and meal type because the p-value of 0.35 is greater than </a:t>
            </a:r>
            <a:r>
              <a:rPr b="1" lang="el-GR" sz="18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=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We have suffiencient evidence that there is no association between meal and meal typ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sonal Opin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ipotle is more of a male restaura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rritos #1 Me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overpric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phen: Burr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rnit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 bea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 Gua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l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ee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r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in: Burr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ick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ua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ls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tter than Moe’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Moes"/>
          <p:cNvPicPr/>
          <p:nvPr/>
        </p:nvPicPr>
        <p:blipFill>
          <a:blip r:embed="rId1"/>
          <a:stretch/>
        </p:blipFill>
        <p:spPr>
          <a:xfrm>
            <a:off x="4497480" y="2357280"/>
            <a:ext cx="3503520" cy="3391200"/>
          </a:xfrm>
          <a:prstGeom prst="rect">
            <a:avLst/>
          </a:prstGeom>
          <a:ln w="0">
            <a:noFill/>
          </a:ln>
        </p:spPr>
      </p:pic>
      <p:sp>
        <p:nvSpPr>
          <p:cNvPr id="154" name="Line 7"/>
          <p:cNvSpPr/>
          <p:nvPr/>
        </p:nvSpPr>
        <p:spPr>
          <a:xfrm flipH="1">
            <a:off x="3809880" y="1523880"/>
            <a:ext cx="5181840" cy="4876920"/>
          </a:xfrm>
          <a:prstGeom prst="line">
            <a:avLst/>
          </a:prstGeom>
          <a:ln w="85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3504960" y="2133360"/>
            <a:ext cx="5638680" cy="3886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as and Err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sibly misheard an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ed up prices wr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s of people with similar likes or trying same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6a00d83451e1dc69e2011570a96fcb970b-800wi"/>
          <p:cNvPicPr/>
          <p:nvPr/>
        </p:nvPicPr>
        <p:blipFill>
          <a:blip r:embed="rId1"/>
          <a:stretch/>
        </p:blipFill>
        <p:spPr>
          <a:xfrm>
            <a:off x="5025960" y="1600200"/>
            <a:ext cx="3282840" cy="2170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error_button"/>
          <p:cNvPicPr/>
          <p:nvPr/>
        </p:nvPicPr>
        <p:blipFill>
          <a:blip r:embed="rId2"/>
          <a:stretch/>
        </p:blipFill>
        <p:spPr>
          <a:xfrm>
            <a:off x="4419720" y="441972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association between meal and meal type, we cannot say that Chipotle is actually a lunch burrito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not overpriced because average cost is only $7.95 per meal, which is less than $10 and just $1.60 more than the basic meal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cannot be said that Chipotle is only a male place, there was a fairly even distribution between males and fem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-cvr-080908-aaron-rodgers-9p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2752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6"/>
          <p:cNvSpPr/>
          <p:nvPr/>
        </p:nvSpPr>
        <p:spPr>
          <a:xfrm>
            <a:off x="4267080" y="762120"/>
            <a:ext cx="4876920" cy="23619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ever I come to Philadelphia, I always eat a nice Chipotle burrito, and the Eagl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bout Chipotle Mexian Gril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nded in 1993 by Steve 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ver, Colo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oked, dried jalapeño pep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nown for “large burri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c Ingredi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Donald’s from ’98 to ’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 income $126 mill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vin and Stephen “regular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File:ChipotleDistributionDecember201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5120" y="1600200"/>
            <a:ext cx="3043080" cy="217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chipotlemenu.net/wp-content/uploads/2010/04/Chipotle-Logo11.jpg"/>
          <p:cNvPicPr/>
          <p:nvPr/>
        </p:nvPicPr>
        <p:blipFill>
          <a:blip r:embed="rId3"/>
          <a:stretch/>
        </p:blipFill>
        <p:spPr>
          <a:xfrm>
            <a:off x="5573880" y="3924360"/>
            <a:ext cx="2185920" cy="2171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www.thefoodsection.com/photos/uncategorized/2009/02/17/chipotle.jpg"/>
          <p:cNvPicPr/>
          <p:nvPr/>
        </p:nvPicPr>
        <p:blipFill>
          <a:blip r:embed="rId4"/>
          <a:srcRect l="0" t="44296" r="0" b="39107"/>
          <a:stretch/>
        </p:blipFill>
        <p:spPr>
          <a:xfrm>
            <a:off x="3048120" y="6135840"/>
            <a:ext cx="518148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We want to Fi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chipotle male dominate, over priced, and a burrito only lunch option? (That’s the stereotype were trying to prove wro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http://www.chipotle.com/en-US/assets/images/menu/menu_burrito_bowl.png"/>
          <p:cNvPicPr/>
          <p:nvPr/>
        </p:nvPicPr>
        <p:blipFill>
          <a:blip r:embed="rId1"/>
          <a:stretch/>
        </p:blipFill>
        <p:spPr>
          <a:xfrm>
            <a:off x="2438280" y="4381560"/>
            <a:ext cx="3322800" cy="247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www.chipotle.com/en-US/assets/images/menu/menu_crispy_tacos.png"/>
          <p:cNvPicPr/>
          <p:nvPr/>
        </p:nvPicPr>
        <p:blipFill>
          <a:blip r:embed="rId2"/>
          <a:stretch/>
        </p:blipFill>
        <p:spPr>
          <a:xfrm>
            <a:off x="0" y="3886200"/>
            <a:ext cx="304812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www.chipotle.com/en-US/assets/images/menu/menu_salad.png"/>
          <p:cNvPicPr/>
          <p:nvPr/>
        </p:nvPicPr>
        <p:blipFill>
          <a:blip r:embed="rId3"/>
          <a:stretch/>
        </p:blipFill>
        <p:spPr>
          <a:xfrm>
            <a:off x="5257800" y="2971800"/>
            <a:ext cx="284796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www.chipotle.com/en-US/assets/images/menu/menu_chips_guac.png"/>
          <p:cNvPicPr/>
          <p:nvPr/>
        </p:nvPicPr>
        <p:blipFill>
          <a:blip r:embed="rId4"/>
          <a:stretch/>
        </p:blipFill>
        <p:spPr>
          <a:xfrm>
            <a:off x="5943600" y="4952880"/>
            <a:ext cx="32004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e Collected Da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nt to three different Chipotle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lley Square, Willow Grove, North W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ed days/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ed for permission- listened in on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ed into ch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ed pr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http://www.underconsideration.com/brandnew/archives/chipotle_logo_original.gif"/>
          <p:cNvPicPr/>
          <p:nvPr/>
        </p:nvPicPr>
        <p:blipFill>
          <a:blip r:embed="rId1"/>
          <a:stretch/>
        </p:blipFill>
        <p:spPr>
          <a:xfrm>
            <a:off x="5562720" y="1219320"/>
            <a:ext cx="3359160" cy="217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thisisthedream.com/wp-content/uploads/2010/09/Chipotle-Burrito.jpg"/>
          <p:cNvPicPr/>
          <p:nvPr/>
        </p:nvPicPr>
        <p:blipFill>
          <a:blip r:embed="rId2"/>
          <a:stretch/>
        </p:blipFill>
        <p:spPr>
          <a:xfrm>
            <a:off x="6227640" y="3505320"/>
            <a:ext cx="2916360" cy="2171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youritlist.com/wp-content/uploads/2009/10/chipotle.bmp"/>
          <p:cNvPicPr/>
          <p:nvPr/>
        </p:nvPicPr>
        <p:blipFill>
          <a:blip r:embed="rId3"/>
          <a:stretch/>
        </p:blipFill>
        <p:spPr>
          <a:xfrm>
            <a:off x="4191120" y="5105520"/>
            <a:ext cx="18288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tribution of Mea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cken (46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ak (2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bacoa (12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nitas (18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e (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vin- Chic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hen- Carni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hipotle.com/en-US/menu/ingredients/ingredients.asp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Chart 2" descr=""/>
          <p:cNvPicPr/>
          <p:nvPr/>
        </p:nvPicPr>
        <p:blipFill>
          <a:blip r:embed="rId2"/>
          <a:stretch/>
        </p:blipFill>
        <p:spPr>
          <a:xfrm>
            <a:off x="4413240" y="1974960"/>
            <a:ext cx="40482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0" y="20570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ender Vs. Meal Exploratory Data Analys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0" y="2257560"/>
            <a:ext cx="5319720" cy="46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04920" y="152280"/>
          <a:ext cx="5410080" cy="2011320"/>
        </p:xfrm>
        <a:graphic>
          <a:graphicData uri="http://schemas.openxmlformats.org/drawingml/2006/table">
            <a:tbl>
              <a:tblPr/>
              <a:tblGrid>
                <a:gridCol w="771480"/>
                <a:gridCol w="774720"/>
                <a:gridCol w="771480"/>
                <a:gridCol w="774720"/>
                <a:gridCol w="771480"/>
                <a:gridCol w="774720"/>
                <a:gridCol w="771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w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rr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6"/>
          <p:cNvSpPr/>
          <p:nvPr/>
        </p:nvSpPr>
        <p:spPr>
          <a:xfrm>
            <a:off x="5715000" y="365760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le and Female most common order is Burrito  at 35/6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 Females ordered o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average of female burritos is 48.28% and male is 52.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hi-Square Test of Homogenity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Gender vs. Meal Typ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733920" y="1600200"/>
            <a:ext cx="4876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: The distribution of Gender and Meal Type is distributed uniform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: The distribution of gender and Meal type is not distributed uniforml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di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).  Categorical Data?             1).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).  2 Ind SRS?                          2). Yes, St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). All expected cell counts    3). No, 4 of 10 a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reater than 5?                        not but we wi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tinue anyw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2743200"/>
          <a:ext cx="3429000" cy="22287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w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4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5.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r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(14.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 (20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 (0.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1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 (4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5.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5.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(7.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6"/>
          <p:cNvSpPr/>
          <p:nvPr/>
        </p:nvSpPr>
        <p:spPr>
          <a:xfrm>
            <a:off x="304920" y="1905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bserve and Expected Data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xpected in Pare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9" descr="http://upload.wikimedia.org/wikipedia/commons/thumb/e/eb/Blue_check.svg/600px-Blue_check.svg.png"/>
          <p:cNvPicPr/>
          <p:nvPr/>
        </p:nvPicPr>
        <p:blipFill>
          <a:blip r:embed="rId1"/>
          <a:stretch/>
        </p:blipFill>
        <p:spPr>
          <a:xfrm>
            <a:off x="5638680" y="4971960"/>
            <a:ext cx="838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360" y="3837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nditions Met - </a:t>
            </a: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 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² Test of Homogeneity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1090440" y="1905120"/>
                <a:ext cx="70963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746360" y="3124080"/>
                <a:ext cx="57290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8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4"/>
          <p:cNvSpPr/>
          <p:nvPr/>
        </p:nvSpPr>
        <p:spPr>
          <a:xfrm>
            <a:off x="609120" y="3934440"/>
            <a:ext cx="79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We fail to reject that the distribution of gender and meal type is distribu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uniformly because the p-value of 0.48 is greater than </a:t>
            </a:r>
            <a:r>
              <a:rPr b="1" lang="el-GR" sz="20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= 0.0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01120" y="4650480"/>
            <a:ext cx="785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We have sufficient evidence that the true distribution of gender and me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ype is distributed uniform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tal Meal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799160" cy="35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5410080" y="1752480"/>
          <a:ext cx="3022560" cy="3240360"/>
        </p:xfrm>
        <a:graphic>
          <a:graphicData uri="http://schemas.openxmlformats.org/drawingml/2006/table">
            <a:tbl>
              <a:tblPr/>
              <a:tblGrid>
                <a:gridCol w="1498680"/>
                <a:gridCol w="15238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9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ndard dev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8" name="TextBox 5"/>
          <p:cNvSpPr/>
          <p:nvPr/>
        </p:nvSpPr>
        <p:spPr>
          <a:xfrm>
            <a:off x="609480" y="5105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histogram is unimodal, and roughly symmetric. There is an outlier at $2. 95 and $4.50  (LF=7.5-1.5(8.9-7.5) because it is lower than $5.40, the lower fence. There is an outlier at  $12.95 and $11.60 (UF= 8.9+1.5(8.9-7.5) because they are greater than $11, the upper fe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62720" y="1371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 # Summ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6:39:10Z</dcterms:created>
  <dc:creator>Rainey.S406</dc:creator>
  <dc:description/>
  <dc:language>en-US</dc:language>
  <cp:lastModifiedBy>Steve Rainey</cp:lastModifiedBy>
  <dcterms:modified xsi:type="dcterms:W3CDTF">2011-01-10T03:05:26Z</dcterms:modified>
  <cp:revision>24</cp:revision>
  <dc:subject/>
  <dc:title>Slide 1</dc:title>
</cp:coreProperties>
</file>